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2.wmf" ContentType="image/x-wmf"/>
  <Override PartName="/ppt/media/image21.wmf" ContentType="image/x-wmf"/>
  <Override PartName="/ppt/media/image19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highchime.wav" ContentType="audio/x-wav"/>
  <Override PartName="/ppt/media/CAMERA.WAV" ContentType="audio/x-wav"/>
  <Override PartName="/ppt/media/image31.wmf" ContentType="image/x-wmf"/>
  <Override PartName="/ppt/media/image1.wmf" ContentType="image/x-wmf"/>
  <Override PartName="/ppt/media/image24.wmf" ContentType="image/x-wmf"/>
  <Override PartName="/ppt/media/projctor.wav" ContentType="audio/x-wav"/>
  <Override PartName="/ppt/media/image17.wmf" ContentType="image/x-wmf"/>
  <Override PartName="/ppt/media/image5.wmf" ContentType="image/x-wmf"/>
  <Override PartName="/ppt/media/image25.wmf" ContentType="image/x-wmf"/>
  <Override PartName="/ppt/media/image6.gif" ContentType="image/gif"/>
  <Override PartName="/ppt/media/image2.wmf" ContentType="image/x-wmf"/>
  <Override PartName="/ppt/media/image23.gif" ContentType="image/gif"/>
  <Override PartName="/ppt/media/image26.wmf" ContentType="image/x-wmf"/>
  <Override PartName="/ppt/media/image3.wmf" ContentType="image/x-wmf"/>
  <Override PartName="/ppt/media/image30.wmf" ContentType="image/x-wmf"/>
  <Override PartName="/ppt/media/drumroll.wav" ContentType="audio/x-wav"/>
  <Override PartName="/ppt/media/image27.wmf" ContentType="image/x-wmf"/>
  <Override PartName="/ppt/media/image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LASER.WAV" ContentType="audio/x-wav"/>
  <Override PartName="/ppt/media/image14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012-7BDC-4737-9FDF-E01A7690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2DA-981A-4422-B43A-FD4C3FA8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887-237B-4263-BB38-4543DD99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09C-A851-4168-ABC0-3BD85859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AFD-7CA0-4AE6-91C3-278D5E72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540-AE2C-44FF-BB46-7736D02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8D7-7C01-4721-BE17-D169FEC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A60-6DB7-44A5-9E72-117AFBA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018-EE33-45F1-90F4-DED6BCD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B9-B42E-48F0-AEA3-AE15674F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598-1567-45E0-95C3-5E758573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15F-C1EA-454B-9A38-331BAA6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B40F-F511-4F77-929C-99037170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audio" Target="../media/projctor.wav"/><Relationship Id="rId17" Type="http://schemas.openxmlformats.org/officeDocument/2006/relationships/audio" Target="../media/EXPLODE.WAV"/><Relationship Id="rId18" Type="http://schemas.openxmlformats.org/officeDocument/2006/relationships/audio" Target="../media/projctor.wav"/><Relationship Id="rId19" Type="http://schemas.openxmlformats.org/officeDocument/2006/relationships/audio" Target="../media/EXPLODE.WAV"/><Relationship Id="rId20" Type="http://schemas.openxmlformats.org/officeDocument/2006/relationships/audio" Target="../media/projctor.wav"/><Relationship Id="rId21" Type="http://schemas.openxmlformats.org/officeDocument/2006/relationships/audio" Target="../media/EXPLODE.WAV"/><Relationship Id="rId22" Type="http://schemas.openxmlformats.org/officeDocument/2006/relationships/audio" Target="../media/projctor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highchim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image" Target="../media/image6.gif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WHOOSH.WAV"/><Relationship Id="rId25" Type="http://schemas.openxmlformats.org/officeDocument/2006/relationships/audio" Target="../media/LASER.WAV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audio" Target="../media/driveby.wav"/><Relationship Id="rId26" Type="http://schemas.openxmlformats.org/officeDocument/2006/relationships/audio" Target="../media/drumroll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EXPLODE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EXPLODE.WAV"/><Relationship Id="rId3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LASER.WAV"/><Relationship Id="rId18" Type="http://schemas.openxmlformats.org/officeDocument/2006/relationships/audio" Target="../media/WHOOSH.WAV"/><Relationship Id="rId19" Type="http://schemas.openxmlformats.org/officeDocument/2006/relationships/audio" Target="../media/LASER.WAV"/><Relationship Id="rId20" Type="http://schemas.openxmlformats.org/officeDocument/2006/relationships/audio" Target="../media/WHOOSH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lope-Intercept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523880"/>
          <a:ext cx="22482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22482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20800" y="3149640"/>
          <a:ext cx="300348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0800" y="3149640"/>
                    <a:ext cx="30034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62120" y="4114800"/>
          <a:ext cx="236700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114800"/>
                    <a:ext cx="2367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62120" y="5181480"/>
          <a:ext cx="150012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181480"/>
                    <a:ext cx="150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62120" y="6093000"/>
          <a:ext cx="2625480" cy="76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6093000"/>
                    <a:ext cx="2625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127320" y="1523880"/>
            <a:ext cx="57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is the slope and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is th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743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The slope is –2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733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slope is 1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–4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724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The slope is 0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715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e slope is 3;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intercept is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752480"/>
            <a:ext cx="8763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total charge C (in dollars)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mplete the table using the equation from part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4040" y="3657600"/>
            <a:ext cx="8479080" cy="1447920"/>
            <a:chOff x="284040" y="3657600"/>
            <a:chExt cx="8479080" cy="1447920"/>
          </a:xfrm>
        </p:grpSpPr>
        <p:sp>
          <p:nvSpPr>
            <p:cNvPr id="68" name=""/>
            <p:cNvSpPr/>
            <p:nvPr/>
          </p:nvSpPr>
          <p:spPr>
            <a:xfrm>
              <a:off x="304920" y="3657600"/>
              <a:ext cx="845820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040" y="4344840"/>
              <a:ext cx="847908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37339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iles (n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419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otal charge 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05320" y="365760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      100      200      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4832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360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365760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14600" y="551196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1.48148E-006 C 0.12153 0.00116 0.23889 0.00602 0.35938 0.00834 C 0.37274 0.00973 0.38368 0.01273 0.39688 0.01459 C 0.49063 0.0132 0.57813 0.00973 0.67188 0.00834 C 0.68438 0.0051 0.69722 0.00718 0.70938 0.00209 C 0.71545 -0.00046 0.73785 -0.00949 0.74375 -0.01458 C 0.74792 -0.01828 0.74826 -0.01944 0.75313 -0.02083 C 0.76458 -0.0243 0.77552 -0.02407 0.7875 -0.025 C 0.90035 -0.05 1.025 -0.04051 1.13906 -0.04166 C 1.15 -0.04652 1.13681 -0.0412 1.15781 -0.04583 C 1.16406 -0.04722 1.17031 -0.05069 1.17656 -0.05208 C 1.19427 -0.05602 1.22847 -0.05578 1.23906 -0.05625 C 1.23854 0.03195 1.23906 0.12014 1.2375 0.20834 C 1.23733 0.21713 1.23125 0.23334 1.23125 0.23334 C 1.22847 0.30417 1.24132 0.31297 1.20313 0.33334 C 1.19861 0.33936 1.19132 0.34977 1.18594 0.35209 C 1.18281 0.35348 1.17934 0.35371 1.17656 0.35625 C 1.16198 0.36922 1.14688 0.37454 1.12969 0.37709 C 1.11771 0.38241 1.10642 0.38565 1.09375 0.3875 C 1.07205 0.39468 1.04757 0.39167 1.025 0.39375 C 0.97899 0.40903 0.93177 0.42107 0.88438 0.425 C 0.82656 0.42385 0.79306 0.42408 0.74375 0.41459 C 0.72552 0.40486 0.70382 0.4051 0.68438 0.40209 C 0.66372 0.39885 0.64236 0.3963 0.62188 0.39167 C 0.59722 0.39329 0.57552 0.39815 0.55156 0.40209 C 0.54583 0.40973 0.53611 0.41459 0.52813 0.41667 C 0.49635 0.42477 0.41875 0.42269 0.40625 0.42292 C 0.32552 0.42801 0.24462 0.42084 0.16406 0.42917 C 0.07049 0.42824 -0.000520000000000007 0.43727 -0.08438 0.41875 C -0.10347 0.40857 -0.12639 0.40255 -0.14688 0.39792 C -0.2026 0.36065 -0.20365 0.37686 -0.29219 0.375 C -0.3066 0.37107 -0.31788 0.36343 -0.33125 0.35625 C -0.33819 0.33773 -0.33611 0.34537 -0.33906 0.33334 C -0.33941 0.30533 -0.34497 0.17315 -0.34219 0.12709 C -0.34167 0.11875 -0.33681 0.10255 -0.33125 0.1 C -0.32517 0.0919 -0.31927 0.08773 -0.3125 0.08125 C -0.30556 0.07477 -0.29965 0.06621 -0.29219 0.06042 C -0.28455 0.05463 -0.27535 0.05023 -0.26719 0.04584 C -0.26424 0.0419 -0.26042 0.03959 -0.25781 0.03542 C -0.25538 0.03125 -0.25503 0.02547 -0.25313 0.02084 C -0.24913 0.01111 -0.24375 0.00463 -0.23906 -0.00416 C -0.23455 -0.0125 -0.23438 -0.01736 -0.22656 -0.02083 C -0.18785 -0.01921 -0.15417 -0.01227 -0.11563 -0.01041 C -0.10365 -1.48147999999917E-006 -0.09045 -0.00139 -0.07656 -1.48148E-006 C -0.04896 0.01227 -0.07326 0.00209 -2.77556E-017 -1.48148E-006 Z">
                                      <p:cBhvr>
                                        <p:cTn id="90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80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1905120" y="5486400"/>
          <a:ext cx="59832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486400"/>
                    <a:ext cx="598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52480" y="4495680"/>
          <a:ext cx="6019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495680"/>
                    <a:ext cx="6019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3581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191120"/>
            <a:ext cx="144756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otal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19112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per m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69000" y="4543560"/>
          <a:ext cx="500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9000" y="4543560"/>
                    <a:ext cx="500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172200" y="4191120"/>
            <a:ext cx="25909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miles 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657600" y="5429160"/>
          <a:ext cx="18288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5429160"/>
                    <a:ext cx="18288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676520" y="2743200"/>
          <a:ext cx="4213080" cy="57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743200"/>
                    <a:ext cx="4213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34120" y="5486400"/>
          <a:ext cx="55404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486400"/>
                    <a:ext cx="5540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0" y="4191120"/>
            <a:ext cx="11430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Flat 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51320" y="4468680"/>
          <a:ext cx="601560" cy="601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51320" y="4468680"/>
                    <a:ext cx="6015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38280" y="5486400"/>
          <a:ext cx="1247760" cy="60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5486400"/>
                    <a:ext cx="1247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08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total charge C (in dollars)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miles dr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-2514600" y="551196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1.48148E-006 C 0.12153 0.00116 0.23889 0.00602 0.35938 0.00834 C 0.37274 0.00973 0.38368 0.01273 0.39688 0.01459 C 0.49063 0.0132 0.57813 0.00973 0.67188 0.00834 C 0.68438 0.0051 0.69722 0.00718 0.70938 0.00209 C 0.71545 -0.00046 0.73785 -0.00949 0.74375 -0.01458 C 0.74792 -0.01828 0.74826 -0.01944 0.75313 -0.02083 C 0.76458 -0.0243 0.77552 -0.02407 0.7875 -0.025 C 0.90035 -0.05 1.025 -0.04051 1.13906 -0.04166 C 1.15 -0.04652 1.13681 -0.0412 1.15781 -0.04583 C 1.16406 -0.04722 1.17031 -0.05069 1.17656 -0.05208 C 1.19427 -0.05602 1.22847 -0.05578 1.23906 -0.05625 C 1.23854 0.03195 1.23906 0.12014 1.2375 0.20834 C 1.23733 0.21713 1.23125 0.23334 1.23125 0.23334 C 1.22847 0.30417 1.24132 0.31297 1.20313 0.33334 C 1.19861 0.33936 1.19132 0.34977 1.18594 0.35209 C 1.18281 0.35348 1.17934 0.35371 1.17656 0.35625 C 1.16198 0.36922 1.14688 0.37454 1.12969 0.37709 C 1.11771 0.38241 1.10642 0.38565 1.09375 0.3875 C 1.07205 0.39468 1.04757 0.39167 1.025 0.39375 C 0.97899 0.40903 0.93177 0.42107 0.88438 0.425 C 0.82656 0.42385 0.79306 0.42408 0.74375 0.41459 C 0.72552 0.40486 0.70382 0.4051 0.68438 0.40209 C 0.66372 0.39885 0.64236 0.3963 0.62188 0.39167 C 0.59722 0.39329 0.57552 0.39815 0.55156 0.40209 C 0.54583 0.40973 0.53611 0.41459 0.52813 0.41667 C 0.49635 0.42477 0.41875 0.42269 0.40625 0.42292 C 0.32552 0.42801 0.24462 0.42084 0.16406 0.42917 C 0.07049 0.42824 -0.000520000000000007 0.43727 -0.08438 0.41875 C -0.10347 0.40857 -0.12639 0.40255 -0.14688 0.39792 C -0.2026 0.36065 -0.20365 0.37686 -0.29219 0.375 C -0.3066 0.37107 -0.31788 0.36343 -0.33125 0.35625 C -0.33819 0.33773 -0.33611 0.34537 -0.33906 0.33334 C -0.33941 0.30533 -0.34497 0.17315 -0.34219 0.12709 C -0.34167 0.11875 -0.33681 0.10255 -0.33125 0.1 C -0.32517 0.0919 -0.31927 0.08773 -0.3125 0.08125 C -0.30556 0.07477 -0.29965 0.06621 -0.29219 0.06042 C -0.28455 0.05463 -0.27535 0.05023 -0.26719 0.04584 C -0.26424 0.0419 -0.26042 0.03959 -0.25781 0.03542 C -0.25538 0.03125 -0.25503 0.02547 -0.25313 0.02084 C -0.24913 0.01111 -0.24375 0.00463 -0.23906 -0.00416 C -0.23455 -0.0125 -0.23438 -0.01736 -0.22656 -0.02083 C -0.18785 -0.01921 -0.15417 -0.01227 -0.11563 -0.01041 C -0.10365 -1.48147999999917E-006 -0.09045 -0.00139 -0.07656 -1.48148E-006 C -0.04896 0.01227 -0.07326 0.00209 -2.77556E-017 -1.48148E-006 Z">
                                      <p:cBhvr>
                                        <p:cTn id="11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0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5. A car rental company charges a flat fee of $50 and an additional $.30 per mile to rent an automo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752480" y="1905120"/>
            <a:ext cx="3983040" cy="658800"/>
            <a:chOff x="1752480" y="1905120"/>
            <a:chExt cx="3983040" cy="658800"/>
          </a:xfrm>
        </p:grpSpPr>
        <p:graphicFrame>
          <p:nvGraphicFramePr>
            <p:cNvPr id="112" name=""/>
            <p:cNvGraphicFramePr/>
            <p:nvPr/>
          </p:nvGraphicFramePr>
          <p:xfrm>
            <a:off x="1752480" y="1962360"/>
            <a:ext cx="59832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1962360"/>
                      <a:ext cx="59832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504960" y="1905120"/>
            <a:ext cx="1828800" cy="6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4960" y="1905120"/>
                      <a:ext cx="182880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5181480" y="1962360"/>
            <a:ext cx="55404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1962360"/>
                      <a:ext cx="55404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285640" y="1962360"/>
            <a:ext cx="124776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5640" y="1962360"/>
                      <a:ext cx="124776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121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040" y="5257800"/>
              <a:ext cx="25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iles (n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720" y="5943600"/>
              <a:ext cx="297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otal charge (C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      100      200      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2590920"/>
                <a:ext cx="3047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5791320" y="2560680"/>
          <a:ext cx="21556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2560680"/>
                    <a:ext cx="21556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33920" y="5943600"/>
          <a:ext cx="703080" cy="56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5943600"/>
                    <a:ext cx="703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19520" y="3200400"/>
                <a:ext cx="327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6019920" y="3209760"/>
          <a:ext cx="2203200" cy="563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3209760"/>
                    <a:ext cx="220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52880" y="5943600"/>
          <a:ext cx="70164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943600"/>
                    <a:ext cx="701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819520" y="3809880"/>
                <a:ext cx="3352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6095880" y="3827520"/>
          <a:ext cx="220032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827520"/>
                    <a:ext cx="22003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248520" y="5943600"/>
          <a:ext cx="982440" cy="563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85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819520" y="4419720"/>
                <a:ext cx="3429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6095880" y="4495680"/>
          <a:ext cx="2198880" cy="56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5880" y="4495680"/>
                    <a:ext cx="2198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20120" y="5943600"/>
          <a:ext cx="982440" cy="563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6201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3623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equation to estimate the school’s enrollment in the year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2004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057400" y="5410080"/>
          <a:ext cx="647640" cy="6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410080"/>
                    <a:ext cx="6476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286000" y="4419720"/>
          <a:ext cx="6015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419720"/>
                    <a:ext cx="6015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4862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114800"/>
            <a:ext cx="198144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chool’s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411480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of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0" y="4419720"/>
          <a:ext cx="500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419720"/>
                    <a:ext cx="500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7238880" y="4114800"/>
            <a:ext cx="16765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umber of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19720" y="5410080"/>
          <a:ext cx="13716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5410080"/>
                    <a:ext cx="1371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715000" y="5410080"/>
          <a:ext cx="4428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5410080"/>
                    <a:ext cx="4428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819520" y="4114800"/>
            <a:ext cx="20574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urrent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800600" y="4343400"/>
          <a:ext cx="601560" cy="6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343400"/>
                    <a:ext cx="6015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90920" y="5410080"/>
          <a:ext cx="179676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5410080"/>
                    <a:ext cx="1796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84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Sit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990720"/>
            <a:ext cx="944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6. In 1996, the enrollment in your school was approximately 1400 students. During the next three years, the enrollment increased by approximately 30 students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36232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to model the school’s enrollment E in terms of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the number of years since 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8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equation to estimate the school’s enrollment in the year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4419720"/>
            <a:ext cx="4100400" cy="609480"/>
            <a:chOff x="2286000" y="4419720"/>
            <a:chExt cx="4100400" cy="609480"/>
          </a:xfrm>
        </p:grpSpPr>
        <p:graphicFrame>
          <p:nvGraphicFramePr>
            <p:cNvPr id="189" name=""/>
            <p:cNvGraphicFramePr/>
            <p:nvPr/>
          </p:nvGraphicFramePr>
          <p:xfrm>
            <a:off x="2286000" y="4419720"/>
            <a:ext cx="647640" cy="60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4419720"/>
                      <a:ext cx="64764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4648320" y="4419720"/>
            <a:ext cx="13716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4419720"/>
                      <a:ext cx="1371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5943600" y="4419720"/>
            <a:ext cx="442800" cy="60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4419720"/>
                      <a:ext cx="442800" cy="60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819520" y="4419720"/>
            <a:ext cx="179676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19520" y="4419720"/>
                      <a:ext cx="1796760" cy="6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52480" y="4952880"/>
                <a:ext cx="49532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5867280" y="5029200"/>
          <a:ext cx="4986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5029200"/>
                    <a:ext cx="498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676520" y="5638680"/>
          <a:ext cx="4208400" cy="6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5638680"/>
                    <a:ext cx="4208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91320" y="5638680"/>
          <a:ext cx="1993680" cy="66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5638680"/>
                    <a:ext cx="19936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286000" y="6140520"/>
          <a:ext cx="3821040" cy="717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6140520"/>
                    <a:ext cx="3821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14:40Z</dcterms:modified>
  <cp:revision>124</cp:revision>
  <dc:subject/>
  <dc:title>No Slide Title</dc:title>
</cp:coreProperties>
</file>